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A80E-9F07-4C82-8B0B-EAFD3893CC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F88-DAD4-48DB-A39D-5C3126B4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E0A-5D1C-40DB-9038-F0D07F5C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B96-5849-4B26-B301-A3582414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191-E7CF-4DC5-9DCF-30980A06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C98-E0B9-4860-8DE9-E764D926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D91-033A-4F7D-A04D-38FDEE26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7A9-387A-49FF-BEE0-B3B43A9B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C258-31BB-4229-9030-149DE7B2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D59-DAF0-432E-BB39-11826F50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EC6-4108-4699-A046-BF12F079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BFB-D716-4A15-B4B3-8E1443CC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006-EA23-43DA-B90C-73630D1C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481A-A416-4D55-878B-CF6CA670E7B1}" type="slidenum">
              <a:rPr b="0" lang="en-US" sz="14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salt marsh"/>
          <p:cNvPicPr/>
          <p:nvPr/>
        </p:nvPicPr>
        <p:blipFill>
          <a:blip r:embed="rId1"/>
          <a:srcRect l="0" t="0" r="11539" b="11794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alt Marshes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biotic perspectiv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ia McGuire, Ph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lorida Sea Grant Extension Ag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4" descr="EXTBlue654OlineOnWhite"/>
          <p:cNvPicPr/>
          <p:nvPr/>
        </p:nvPicPr>
        <p:blipFill>
          <a:blip r:embed="rId2"/>
          <a:stretch/>
        </p:blipFill>
        <p:spPr>
          <a:xfrm>
            <a:off x="2971800" y="518148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lorida Sea Grant-blue"/>
          <p:cNvPicPr/>
          <p:nvPr/>
        </p:nvPicPr>
        <p:blipFill>
          <a:blip r:embed="rId3"/>
          <a:stretch/>
        </p:blipFill>
        <p:spPr>
          <a:xfrm>
            <a:off x="4952880" y="5181480"/>
            <a:ext cx="12956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majority of commercially-important marine species rely on estuaries/salt marsh at some stage of lif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amples include blue crab, oysters, hard clams, shrimp, red drum, seatrout, sheepshead, bluefish, mulle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salt marsh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rosion contro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ltr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ological term—amount of carbon produced per m² per unit tim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 kg (ash free dry weight)/m²/yea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miting factors include nutrients, ligh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alt marsh plants provide detritus for the estuarine food web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w grazers on blades (&lt; 10% of biomas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arge detrital biomass supports broad food web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ial salt marsh food we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09480" y="4419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sh 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438280" y="4800600"/>
            <a:ext cx="10670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128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ri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447920" y="50198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a, fun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621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4100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65760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1447920" y="38001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1911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98108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1447920" y="28195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1676520" y="281952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7"/>
          <p:cNvSpPr/>
          <p:nvPr/>
        </p:nvSpPr>
        <p:spPr>
          <a:xfrm flipV="1">
            <a:off x="4114800" y="46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4343400" y="472428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H="1" flipV="1">
            <a:off x="2514600" y="28195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"/>
          <p:cNvSpPr/>
          <p:nvPr/>
        </p:nvSpPr>
        <p:spPr>
          <a:xfrm flipV="1">
            <a:off x="4191120" y="2895120"/>
            <a:ext cx="2286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 flipH="1" flipV="1">
            <a:off x="2666880" y="2742840"/>
            <a:ext cx="28958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172200" y="563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t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6934320" y="4419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y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75438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7238880" y="48765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7"/>
          <p:cNvSpPr/>
          <p:nvPr/>
        </p:nvSpPr>
        <p:spPr>
          <a:xfrm flipH="1" flipV="1">
            <a:off x="6705360" y="3657600"/>
            <a:ext cx="6094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 flipV="1">
            <a:off x="7543800" y="380952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 flipH="1" flipV="1">
            <a:off x="5028840" y="27432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62485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 flipV="1">
            <a:off x="6400800" y="2362320"/>
            <a:ext cx="1522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 flipV="1">
            <a:off x="4419720" y="2362320"/>
            <a:ext cx="190476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3"/>
          <p:cNvSpPr/>
          <p:nvPr/>
        </p:nvSpPr>
        <p:spPr>
          <a:xfrm flipV="1">
            <a:off x="2590920" y="2133720"/>
            <a:ext cx="35812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4"/>
          <p:cNvSpPr/>
          <p:nvPr/>
        </p:nvSpPr>
        <p:spPr>
          <a:xfrm flipH="1" flipV="1">
            <a:off x="1676520" y="3809880"/>
            <a:ext cx="22096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2081160" y="36576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r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6"/>
          <p:cNvSpPr/>
          <p:nvPr/>
        </p:nvSpPr>
        <p:spPr>
          <a:xfrm flipH="1" flipV="1">
            <a:off x="3047760" y="4190760"/>
            <a:ext cx="99036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7"/>
          <p:cNvSpPr/>
          <p:nvPr/>
        </p:nvSpPr>
        <p:spPr>
          <a:xfrm flipH="1" flipV="1">
            <a:off x="2285640" y="289512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8"/>
          <p:cNvSpPr/>
          <p:nvPr/>
        </p:nvSpPr>
        <p:spPr>
          <a:xfrm flipV="1">
            <a:off x="2971800" y="2895120"/>
            <a:ext cx="12952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9"/>
          <p:cNvSpPr/>
          <p:nvPr/>
        </p:nvSpPr>
        <p:spPr>
          <a:xfrm flipV="1">
            <a:off x="3276720" y="2285640"/>
            <a:ext cx="2971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1"/>
          <p:cNvSpPr/>
          <p:nvPr/>
        </p:nvSpPr>
        <p:spPr>
          <a:xfrm flipH="1">
            <a:off x="4572000" y="3581280"/>
            <a:ext cx="1371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68580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lph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3"/>
          <p:cNvSpPr/>
          <p:nvPr/>
        </p:nvSpPr>
        <p:spPr>
          <a:xfrm flipH="1" flipV="1">
            <a:off x="1600200" y="20574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4"/>
          <p:cNvSpPr/>
          <p:nvPr/>
        </p:nvSpPr>
        <p:spPr>
          <a:xfrm flipH="1" flipV="1">
            <a:off x="4648320" y="441936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5"/>
          <p:cNvSpPr/>
          <p:nvPr/>
        </p:nvSpPr>
        <p:spPr>
          <a:xfrm>
            <a:off x="25909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6"/>
          <p:cNvSpPr/>
          <p:nvPr/>
        </p:nvSpPr>
        <p:spPr>
          <a:xfrm flipH="1" flipV="1">
            <a:off x="2437920" y="2895480"/>
            <a:ext cx="160020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ursery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eding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icrohabita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eria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enth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quat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ressful environmen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apid changes in temperature, salinity, water depth, dissolved oxyge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edimentatio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salt marsh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community of emerged halophytic vegetation in areas alternately inundated and drained by tidal action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pansive inter- or supratidal areas occupied by rooted emergent vascular macrophytes and a variety of epiphytes and epifauna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09480" y="52578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merg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ticking out of the water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Halophy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alt-loving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Inunda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flooded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acro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that’s large enough to se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growing on another organism but not a parasit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fau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animal version of epiph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are salt marshes fou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long intertidal shore of estuar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lat, protected wate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tensive from Maine-Florida, along Gulf coast from Florida-Tex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 FL, most abundant north of the freeze line (70% of state’s salt marsh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alt marsh commu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lan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grass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sociated halophytic (salt-tolerant) pla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nimal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rmanent reside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Visito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spartina patens"/>
          <p:cNvPicPr/>
          <p:nvPr/>
        </p:nvPicPr>
        <p:blipFill>
          <a:blip r:embed="rId2"/>
          <a:srcRect l="14075" t="0" r="0" b="0"/>
          <a:stretch/>
        </p:blipFill>
        <p:spPr>
          <a:xfrm>
            <a:off x="5756400" y="1600200"/>
            <a:ext cx="3387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gras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alterniflor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mooth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Juncus roemerian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lack needle rush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Cladium mariscoid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wamp saw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pate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alt meadow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ociated pl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succul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ceptions include salt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edible (saltwort, glasswort, sea purslane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rm transitional zone between salt marsh and maritime hammock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" name="Picture 5" descr="Glasswort-red"/>
          <p:cNvPicPr/>
          <p:nvPr/>
        </p:nvPicPr>
        <p:blipFill>
          <a:blip r:embed="rId1"/>
          <a:stretch/>
        </p:blipFill>
        <p:spPr>
          <a:xfrm>
            <a:off x="6172200" y="205740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zo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tertidal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, Junc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igh marsh (above mean high water)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Distichlis spicata, Batis maritim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alicorn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Borrich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ued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nearis, Limonium carolinanu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pper edge of high marsh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Iva frutescens, Baccharis halmifol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rsh-mangrove transition zo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iddler crabs"/>
          <p:cNvPicPr/>
          <p:nvPr/>
        </p:nvPicPr>
        <p:blipFill>
          <a:blip r:embed="rId1"/>
          <a:srcRect l="42394" t="13769" r="22826" b="31886"/>
          <a:stretch/>
        </p:blipFill>
        <p:spPr>
          <a:xfrm>
            <a:off x="6095880" y="3124080"/>
            <a:ext cx="279576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ident anim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ttorina irrorat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periwinkle (snai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ddler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Uc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Sesarm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Geukensia demiss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bbed muss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" name="Picture 4" descr="Marsh periwinkle"/>
          <p:cNvPicPr/>
          <p:nvPr/>
        </p:nvPicPr>
        <p:blipFill>
          <a:blip r:embed="rId2"/>
          <a:srcRect l="10100" t="31253" r="6293" b="17504"/>
          <a:stretch/>
        </p:blipFill>
        <p:spPr>
          <a:xfrm>
            <a:off x="6400800" y="914400"/>
            <a:ext cx="2438280" cy="22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bbed mussel-NOAA"/>
          <p:cNvPicPr/>
          <p:nvPr/>
        </p:nvPicPr>
        <p:blipFill>
          <a:blip r:embed="rId3"/>
          <a:stretch/>
        </p:blipFill>
        <p:spPr>
          <a:xfrm>
            <a:off x="4267080" y="5257800"/>
            <a:ext cx="213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dal Marsh Visit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r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rim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iamondback terrapi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9:09:19Z</dcterms:created>
  <dc:creator>Maia P  McGUire</dc:creator>
  <dc:description/>
  <dc:language>en-US</dc:language>
  <cp:lastModifiedBy>RomaK</cp:lastModifiedBy>
  <dcterms:modified xsi:type="dcterms:W3CDTF">2015-09-04T09:45:03Z</dcterms:modified>
  <cp:revision>11</cp:revision>
  <dc:subject/>
  <dc:title>Salt Marshes -biotic perspectives</dc:title>
</cp:coreProperties>
</file>